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4AD-75CD-45C6-BEF0-D4E3E29F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2FF-35AB-41DF-A176-BF3F2C79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491-D0F4-412F-9420-E95E7986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8DD-A47F-41A2-B824-0A335BC2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C977-DC14-4CD2-9F5A-7B40D5F3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F35F-F60B-4050-9EBB-EDC29B04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0AA8-5044-4F80-97C2-046D8061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7A7F-4252-4931-B2EC-38955E63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0B3-8DD8-4732-8783-F52B1A6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F741-84EC-4A94-81C9-F357387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C4F7-EDB9-452C-B81D-92B8B2B3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0E9-B99E-42F3-9333-7F4A546B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50E4-65C3-4178-8B2E-E3D8B67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D6A5-090D-4245-A4FB-CE7FFFC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1CD7-6885-4974-AE5B-82804BDB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657-EF4B-425A-979C-5E337BC5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4F80-7DC7-4A6F-8C38-C88C81D7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C26-F8B0-4D1F-8EC2-A1FA58E9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E1D-3E8E-4B5E-9689-AF1851C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1D3-1FE4-48B4-9EEA-AF6DFD3D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B8E-DF38-4D0D-9978-654C4086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CEE-D5BC-4101-A1D8-29778825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9F4-5082-4F14-8BA1-D1F1921E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018-D607-4242-B1F4-84E5A3C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D95C-3313-4D2E-A5D7-CEBF147C3AD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0B2B-E993-45E3-89A9-6A9397FBF18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45BC-2C53-4A78-AA6B-6329E6DD1CC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19080" y="3851280"/>
            <a:ext cx="446544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D2D7-C08D-497D-8B8B-AF695FC8518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4516560" cy="3980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rcRect l="0" t="-5648" r="0" b="31755"/>
          <a:stretch/>
        </p:blipFill>
        <p:spPr>
          <a:xfrm>
            <a:off x="4484520" y="4208400"/>
            <a:ext cx="4624560" cy="2625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3"/>
          <a:srcRect l="0" t="9135" r="0" b="0"/>
          <a:stretch/>
        </p:blipFill>
        <p:spPr>
          <a:xfrm>
            <a:off x="4516560" y="0"/>
            <a:ext cx="4592520" cy="4927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rcRect l="0" t="0" r="265" b="4626"/>
          <a:stretch/>
        </p:blipFill>
        <p:spPr>
          <a:xfrm>
            <a:off x="0" y="3797280"/>
            <a:ext cx="4545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лан изучения живого объект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представ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об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а дл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нужно охраня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E7B-8A0A-44DA-924B-C4A0E51C6C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48A-B995-483E-8A4A-C44EB3A66F0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940360" y="4156200"/>
            <a:ext cx="1109880" cy="7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7812000" y="2133720"/>
            <a:ext cx="973080" cy="745920"/>
          </a:xfrm>
          <a:prstGeom prst="rect">
            <a:avLst/>
          </a:prstGeom>
          <a:ln w="0">
            <a:noFill/>
          </a:ln>
        </p:spPr>
      </p:pic>
      <p:sp>
        <p:nvSpPr>
          <p:cNvPr id="140" name="Кольцо 5"/>
          <p:cNvSpPr/>
          <p:nvPr/>
        </p:nvSpPr>
        <p:spPr>
          <a:xfrm>
            <a:off x="4140360" y="4581360"/>
            <a:ext cx="2447640" cy="1440000"/>
          </a:xfrm>
          <a:custGeom>
            <a:avLst/>
            <a:gdLst/>
            <a:ahLst/>
            <a:rect l="l" t="t" r="r" b="b"/>
            <a:pathLst>
              <a:path w="2447925" h="1439863">
                <a:moveTo>
                  <a:pt x="0" y="719932"/>
                </a:moveTo>
                <a:cubicBezTo>
                  <a:pt x="0" y="322325"/>
                  <a:pt x="547987" y="0"/>
                  <a:pt x="1223963" y="0"/>
                </a:cubicBezTo>
                <a:cubicBezTo>
                  <a:pt x="1899939" y="0"/>
                  <a:pt x="2447926" y="322325"/>
                  <a:pt x="2447926" y="719932"/>
                </a:cubicBezTo>
                <a:cubicBezTo>
                  <a:pt x="2447926" y="1117539"/>
                  <a:pt x="1899939" y="1439864"/>
                  <a:pt x="1223963" y="1439864"/>
                </a:cubicBezTo>
                <a:cubicBezTo>
                  <a:pt x="547987" y="1439864"/>
                  <a:pt x="0" y="1117539"/>
                  <a:pt x="0" y="719932"/>
                </a:cubicBezTo>
                <a:close/>
                <a:moveTo>
                  <a:pt x="359966" y="719932"/>
                </a:moveTo>
                <a:cubicBezTo>
                  <a:pt x="359966" y="918736"/>
                  <a:pt x="746791" y="1079898"/>
                  <a:pt x="1223963" y="1079898"/>
                </a:cubicBezTo>
                <a:cubicBezTo>
                  <a:pt x="1701135" y="1079898"/>
                  <a:pt x="2087960" y="918736"/>
                  <a:pt x="2087960" y="719932"/>
                </a:cubicBezTo>
                <a:cubicBezTo>
                  <a:pt x="2087960" y="521128"/>
                  <a:pt x="1701135" y="359966"/>
                  <a:pt x="1223963" y="359966"/>
                </a:cubicBezTo>
                <a:cubicBezTo>
                  <a:pt x="746791" y="359966"/>
                  <a:pt x="359966" y="521128"/>
                  <a:pt x="359966" y="719932"/>
                </a:cubicBezTo>
                <a:close/>
              </a:path>
            </a:pathLst>
          </a:custGeom>
          <a:solidFill>
            <a:srgbClr val="ff0000"/>
          </a:solidFill>
          <a:ln w="19080">
            <a:solidFill>
              <a:srgbClr val="bc9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5229360" y="5275440"/>
            <a:ext cx="711000" cy="626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5796000" y="5119560"/>
            <a:ext cx="969840" cy="74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6"/>
          <a:stretch/>
        </p:blipFill>
        <p:spPr>
          <a:xfrm>
            <a:off x="5940360" y="1557360"/>
            <a:ext cx="970200" cy="744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7"/>
          <a:stretch/>
        </p:blipFill>
        <p:spPr>
          <a:xfrm>
            <a:off x="4276800" y="5151600"/>
            <a:ext cx="1109520" cy="78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8"/>
          <a:stretch/>
        </p:blipFill>
        <p:spPr>
          <a:xfrm>
            <a:off x="6783480" y="5005440"/>
            <a:ext cx="828720" cy="97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9"/>
          <a:stretch/>
        </p:blipFill>
        <p:spPr>
          <a:xfrm>
            <a:off x="4951440" y="4365720"/>
            <a:ext cx="825480" cy="976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"/>
          <p:cNvPicPr/>
          <p:nvPr/>
        </p:nvPicPr>
        <p:blipFill>
          <a:blip r:embed="rId10"/>
          <a:stretch/>
        </p:blipFill>
        <p:spPr>
          <a:xfrm>
            <a:off x="68400" y="195120"/>
            <a:ext cx="48830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067640" y="546840"/>
            <a:ext cx="31683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лядь живет в Волге в чистой воде до 30 лет. На вылов её требуется много времени, рыба осторожна. Стерлядь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есена в Красную книгу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газинах ее много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ежем, замороженном виде и консервы? Почему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22A7-7023-474B-BEB6-7E322DB925E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90600" y="128520"/>
            <a:ext cx="31878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187280" y="1915920"/>
            <a:ext cx="73440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ять природу – значит охранять Родину»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Пришв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233D-B794-431F-8E86-98AD6EF0B11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ик с.90-93 прочитать, ответить на вопросы с.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ополни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Выполнить задания на платформе Учи.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* Подготовить сообщение о животном или растении из Красной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3F8-B278-4D45-B4B8-12387CABC60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092F-147F-439C-97F2-A222B3A5C10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309680" y="2492280"/>
            <a:ext cx="6718320" cy="4156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5472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ван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1476360" y="1628640"/>
            <a:ext cx="6121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расная книг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3" name="Picture 5" descr="photo_2017-03-13_19-17-25"/>
          <p:cNvPicPr/>
          <p:nvPr/>
        </p:nvPicPr>
        <p:blipFill>
          <a:blip r:embed="rId1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photo_2017-03-13_19-17-25"/>
          <p:cNvPicPr/>
          <p:nvPr/>
        </p:nvPicPr>
        <p:blipFill>
          <a:blip r:embed="rId2"/>
          <a:stretch/>
        </p:blipFill>
        <p:spPr>
          <a:xfrm>
            <a:off x="7164360" y="5213520"/>
            <a:ext cx="179244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5F91-BFA4-4918-8EC8-6B38077D2F2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360440" y="692280"/>
            <a:ext cx="63072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54AC-3C14-4D53-AFC7-9D4F45574F0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2152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EB7-BD4D-4310-A47C-4B5CE7BF9C8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713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F31A-1B89-4F9F-A742-4336BF52316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374840" y="692280"/>
            <a:ext cx="63882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CE9-6124-4B89-9A67-15D2BCDAF7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420920" y="692280"/>
            <a:ext cx="67197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BF14-538A-4C2E-ABF1-206DBA4C43E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249200" y="549360"/>
            <a:ext cx="6556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798C-D031-4FE7-BAFC-A54E7EE49B8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32000" y="2281320"/>
            <a:ext cx="2697480" cy="2489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3795840" y="3038400"/>
            <a:ext cx="1414440" cy="974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"/>
          <p:cNvPicPr/>
          <p:nvPr/>
        </p:nvPicPr>
        <p:blipFill>
          <a:blip r:embed="rId3"/>
          <a:stretch/>
        </p:blipFill>
        <p:spPr>
          <a:xfrm>
            <a:off x="3228840" y="111240"/>
            <a:ext cx="2563920" cy="227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"/>
          <p:cNvPicPr/>
          <p:nvPr/>
        </p:nvPicPr>
        <p:blipFill>
          <a:blip r:embed="rId4"/>
          <a:stretch/>
        </p:blipFill>
        <p:spPr>
          <a:xfrm>
            <a:off x="5219640" y="1236600"/>
            <a:ext cx="2627280" cy="228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5"/>
          <a:stretch/>
        </p:blipFill>
        <p:spPr>
          <a:xfrm>
            <a:off x="5219640" y="3525840"/>
            <a:ext cx="2627280" cy="2243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"/>
          <p:cNvPicPr/>
          <p:nvPr/>
        </p:nvPicPr>
        <p:blipFill>
          <a:blip r:embed="rId6"/>
          <a:stretch/>
        </p:blipFill>
        <p:spPr>
          <a:xfrm>
            <a:off x="3228840" y="4692600"/>
            <a:ext cx="2563920" cy="204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7"/>
          <a:stretch/>
        </p:blipFill>
        <p:spPr>
          <a:xfrm>
            <a:off x="1220760" y="3525840"/>
            <a:ext cx="2595600" cy="226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8"/>
          <a:stretch/>
        </p:blipFill>
        <p:spPr>
          <a:xfrm>
            <a:off x="1204920" y="1236600"/>
            <a:ext cx="259092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3T15:35:24Z</dcterms:created>
  <dc:creator>Вжик</dc:creator>
  <dc:description/>
  <dc:language>en-US</dc:language>
  <cp:lastModifiedBy>User</cp:lastModifiedBy>
  <dcterms:modified xsi:type="dcterms:W3CDTF">2025-03-24T16:47:18Z</dcterms:modified>
  <cp:revision>58</cp:revision>
  <dc:subject/>
  <dc:title>Красная книга</dc:title>
</cp:coreProperties>
</file>